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5.jpeg" ContentType="image/jpeg"/>
  <Override PartName="/ppt/media/image18.gif" ContentType="image/gif"/>
  <Override PartName="/ppt/media/image13.jpeg" ContentType="image/jpeg"/>
  <Override PartName="/ppt/media/image33.wmf" ContentType="image/x-wmf"/>
  <Override PartName="/ppt/media/image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gif" ContentType="image/gif"/>
  <Override PartName="/ppt/media/image26.gif" ContentType="image/gif"/>
  <Override PartName="/ppt/media/image20.jpeg" ContentType="image/jpeg"/>
  <Override PartName="/ppt/media/image29.png" ContentType="image/png"/>
  <Override PartName="/ppt/media/image32.wmf" ContentType="image/x-wmf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3C82-9E77-4DAE-8A1B-7E30CA5F4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2360" cy="3294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38200" y="4389480"/>
            <a:ext cx="5781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BAC5C-82C7-4C72-85B8-1DFDEFE0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85C61-5D20-4BED-8498-DBCD549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BF9A-7A14-49F4-93EA-025311F0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A2330-F04F-44D6-A576-CC38135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B961-242E-499B-82EC-A31EFA0D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C7CA-322B-453B-971D-56DF2098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9127-A41E-4E7A-A281-765BA6BE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194A-4350-4A95-89EF-9803CA3A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9082-D9EE-47CD-BF0B-02F4C76B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4538-3053-4698-B075-ADCB298F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D71C-447A-450D-94C5-8C662101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8D95-8E21-4C58-BC63-64B2F0B7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DA0D-5811-42CB-80AE-61160F8D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82D2-3131-4DF3-AC93-9FCD7BC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F4181-8CBE-44EC-8878-D9113A3D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0EABF-BFBF-4532-B8D8-EECE15D3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AE56-A4C3-4562-980B-3AE2D878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A960B-1207-45F4-BF14-066CEEA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EA4DF-3132-4FB0-90D9-43E1828E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2BC7-95DE-4A7C-9530-73EE00DC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FC3A-DAFB-4048-91A4-EFFE5DDC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E0D-0CD5-4DA0-AC10-7092ECCD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8A6-9EDE-496E-B49E-E7932FCD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B8D-49A3-4BD3-9789-BAB82AF1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D44-163B-43F9-9A2D-BFCB9333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D30-8A0C-4C66-8CD2-3442313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59F-B386-4F33-BA10-62454D08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A23-098A-4EF3-BD23-0A69CD2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463-346E-4D27-A6FD-36D5BB4A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84B-A319-4DEF-A9A2-FA83A94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088-EC73-4ABE-9E8E-34365EFC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334-A7EB-4702-9C89-F9A5BF84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CBA-F5CC-4E18-8EBC-0355F5B3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B895-0129-4CF0-9032-C938395F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C3FE-141A-438B-800F-EE16F281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5B40-EBBC-47A7-8635-529644C4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BC32-45BA-4EFC-BD05-A61FB18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3963-25F4-4359-8906-D91CC963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964A-6138-4896-9EEE-9B1ED87B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0719-6734-4FA9-9738-D4A26891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AD27-FD82-409A-9D68-0430DF65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5EAE-0FF1-429E-9C45-25DC9000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6F13-528D-4FFB-9E96-C61C5E3A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D9F4-57E4-44F8-8A94-92DDD23E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01D4-FDA3-4B72-9161-8A57A4A0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2800-2724-49D8-973A-0CB8DB59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7FA2-EEAD-49FC-BD7C-7BAA1C8A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7E98-3462-482A-90EA-A0C8A605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www.nordridesign.com/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ww.nordri.net/" TargetMode="External"/><Relationship Id="rId10" Type="http://schemas.openxmlformats.org/officeDocument/2006/relationships/hyperlink" Target="http://www.nordridesign.com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creativecommons.org/licenses/by-nc/2.5/cn/legalcode" TargetMode="External"/><Relationship Id="rId13" Type="http://schemas.openxmlformats.org/officeDocument/2006/relationships/hyperlink" Target="http://www.nordridesign.cn/" TargetMode="External"/><Relationship Id="rId14" Type="http://schemas.openxmlformats.org/officeDocument/2006/relationships/hyperlink" Target="http://www.nordri.net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9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图片7.png"/>
          <p:cNvPicPr/>
          <p:nvPr/>
        </p:nvPicPr>
        <p:blipFill>
          <a:blip r:embed="rId4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图片4.png"/>
          <p:cNvPicPr/>
          <p:nvPr/>
        </p:nvPicPr>
        <p:blipFill>
          <a:blip r:embed="rId5"/>
          <a:stretch/>
        </p:blipFill>
        <p:spPr>
          <a:xfrm>
            <a:off x="0" y="0"/>
            <a:ext cx="326700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TextBox 9" descr=""/>
          <p:cNvPicPr/>
          <p:nvPr/>
        </p:nvPicPr>
        <p:blipFill>
          <a:blip r:embed="rId6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3C35-6223-417E-84FD-749A4BC53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0DB5-5F51-4CAA-AC8F-7A535920FC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>
            <a:hlinkClick r:id="rId3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4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5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6" descr="powerbar_update_light"/>
          <p:cNvPicPr/>
          <p:nvPr/>
        </p:nvPicPr>
        <p:blipFill>
          <a:blip r:embed="rId6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7" descr="powerstore"/>
          <p:cNvPicPr/>
          <p:nvPr/>
        </p:nvPicPr>
        <p:blipFill>
          <a:blip r:embed="rId7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tm_logo"/>
          <p:cNvPicPr/>
          <p:nvPr/>
        </p:nvPicPr>
        <p:blipFill>
          <a:blip r:embed="rId8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>
            <a:hlinkClick r:id="rId9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>
            <a:hlinkClick r:id="rId10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11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>
            <a:hlinkClick r:id="rId12"/>
          </p:cNvPr>
          <p:cNvSpPr/>
          <p:nvPr/>
        </p:nvSpPr>
        <p:spPr>
          <a:xfrm>
            <a:off x="2177640" y="3859920"/>
            <a:ext cx="345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>
            <a:hlinkClick r:id="rId13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>
            <a:hlinkClick r:id="rId14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>
            <a:hlinkClick r:id="rId15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0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cc"/>
          <p:cNvPicPr/>
          <p:nvPr/>
        </p:nvPicPr>
        <p:blipFill>
          <a:blip r:embed="rId17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99" name="Line 23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5" descr="tm_logo"/>
          <p:cNvPicPr/>
          <p:nvPr/>
        </p:nvPicPr>
        <p:blipFill>
          <a:blip r:embed="rId18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9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™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6" descr="17.jpg"/>
          <p:cNvPicPr/>
          <p:nvPr/>
        </p:nvPicPr>
        <p:blipFill>
          <a:blip r:embed="rId3"/>
          <a:stretch/>
        </p:blipFill>
        <p:spPr>
          <a:xfrm>
            <a:off x="0" y="0"/>
            <a:ext cx="7142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7"/>
          <p:cNvSpPr/>
          <p:nvPr/>
        </p:nvSpPr>
        <p:spPr>
          <a:xfrm>
            <a:off x="7786800" y="6357960"/>
            <a:ext cx="1143000" cy="398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Calibri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B8A6-D3D4-4980-B999-D597E689A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641A-05AA-49EF-8CA8-DE5FD8C5C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6507503&amp;tn=baiduimagedetail&amp;word=&#26465;&#20214;&#21453;&#23556;&amp;in=1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g.tc.cn/hq/shengwuzu/kejian/gongyong/all.htm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15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20369550&amp;tn=baiduimagedetail&amp;word=&#36855;&#31548;&#23454;&#39564;&amp;in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ep.com.cn/200406/ca464932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节 学   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内容：学习的类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化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u=2163676903,1919929309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00200"/>
            <a:ext cx="7086600" cy="48769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无条件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feijiatia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57200"/>
            <a:ext cx="7238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tiaojianfanshejiancheng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54864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条件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典条件反射的建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食物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引起狗的唾液分泌（无条件反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铃声（条件刺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与食物（无条件刺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多次结合 、同时出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在铃声（条件刺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单独出现可以引起类似的唾液分泌反应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W020100827857630715047"/>
          <p:cNvPicPr/>
          <p:nvPr/>
        </p:nvPicPr>
        <p:blipFill>
          <a:blip r:embed="rId1"/>
          <a:stretch/>
        </p:blipFill>
        <p:spPr>
          <a:xfrm>
            <a:off x="685800" y="3429000"/>
            <a:ext cx="7620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婴儿的条件反射学习：宝宝出生几天，妈妈把奶头塞进宝宝的嘴里，宝宝就开始吮吸，这是一种本能，也是一种无条件反射活动。几个星期以后，他一看见妈妈，就做吮吸动作。这表明，他已懂得，妈妈的出现，预示着有好东西给他吃。在这种学习中，反射运用（吮吸）最终会与一般不能引起这种的刺激因素（妈妈形象）联系起来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有的学习都是联系的形成，而联系的形成就是思想、思维、知识”。“显然，我们的一切培育、学习和训练，一切可能的习惯都是很长系列的条件的反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7010280" y="5715000"/>
            <a:ext cx="609840" cy="1143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u=2066823717,3639981755&amp;gp=2"/>
          <p:cNvPicPr/>
          <p:nvPr/>
        </p:nvPicPr>
        <p:blipFill>
          <a:blip r:embed="rId1"/>
          <a:stretch/>
        </p:blipFill>
        <p:spPr>
          <a:xfrm>
            <a:off x="457200" y="533520"/>
            <a:ext cx="4038480" cy="57909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5"/>
          <p:cNvSpPr/>
          <p:nvPr/>
        </p:nvSpPr>
        <p:spPr>
          <a:xfrm>
            <a:off x="4800600" y="1866960"/>
            <a:ext cx="4343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斯金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F.Ski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904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990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美国心理学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曾担任美国印第安大学、哈佛大学的教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pic2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操作条件反射又叫工具条件反射。在操作条件反射中的学习，也就是操纵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与压杆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之间形成了固定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述实验中的白鼠按压杠杆，这种反应就是由有机体自发发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可以概括为：如果一个操作发生后，紧接着给一个强化刺激，那么其强度就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婴幼儿的操作条件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人常常用这种方式向婴幼儿传授各种行为、动作。例如，指导几个月的婴儿用手指点自己的五官，使他认识自己；训练婴幼儿正常大小便；教他们说话；一直到指导他们在学校里如何循规蹈矩地做一个好学生等等。宝宝做对了，大人立刻给予赞扬，几次重复后，宝宝就学会了各种动作和知识。在学习过程中，肯定、赞扬等强化手段起着重要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两种条件反射的区别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经典条件反射中，强化伴随条件刺激物，但它要与条件刺激物同时或稍后出现，这样条件反射才能形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操作条件反射中，强化物同反应相结合，也就是有机体必须先作出适当的反应，然后才能得到强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学习：在经验的作用下而发生的相对持久的行为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图片 3" descr="a8014c086e061d957a99a42571f40ad163d9cad4.jpg"/>
          <p:cNvPicPr/>
          <p:nvPr/>
        </p:nvPicPr>
        <p:blipFill>
          <a:blip r:embed="rId1"/>
          <a:stretch/>
        </p:blipFill>
        <p:spPr>
          <a:xfrm>
            <a:off x="609480" y="2971800"/>
            <a:ext cx="3121200" cy="208116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4" descr="52f58PICXip_1024.jpg"/>
          <p:cNvPicPr/>
          <p:nvPr/>
        </p:nvPicPr>
        <p:blipFill>
          <a:blip r:embed="rId2"/>
          <a:stretch/>
        </p:blipFill>
        <p:spPr>
          <a:xfrm>
            <a:off x="3809880" y="4573440"/>
            <a:ext cx="46483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婴儿的模仿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婴幼儿的许多动作和行为是通过观察别人怎么做而加以模仿学得的。儿童心理学家穆尔和梅尔佐夫运用科学实验手段研究发现，出生１２～２１天的新生儿就能模仿成人的面部表情，如伸舌、张口、翘嘴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6019920" y="5562720"/>
            <a:ext cx="1752480" cy="5331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社会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杜拉认为，人类学习的实质应当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观察学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因为人类具有认知能力，能够更多地得益于经验，因此，大部分的人类行为是通过对榜样的观察而习得的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社会学习理论将人类的学习分为两大类：一是直接经验的学习，二是间接经验的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对教育的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杜拉认为学习行为可由观察模仿而产生，此理论符合“身教重于言教”的原则，因而被教育上用来解释学习行为自律问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学习为教育上经常举办的示范教学、观摩教学以及教学演示等措施，提供了理论依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学习的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试误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经典条件反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操作性条件反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社会学习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047760" y="228600"/>
            <a:ext cx="6095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三、行为塑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斯金纳率先提出了强化理论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言之就是用令入愉快的刺激去强化正当的行为 ，用令入厌恶的刺激去纠正不正当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01000000000000119080706248955_s"/>
          <p:cNvPicPr/>
          <p:nvPr/>
        </p:nvPicPr>
        <p:blipFill>
          <a:blip r:embed="rId1"/>
          <a:stretch/>
        </p:blipFill>
        <p:spPr>
          <a:xfrm>
            <a:off x="0" y="1219320"/>
            <a:ext cx="30481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化的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强化与负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级强化与二级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连续强化与间断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强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04920" y="1980720"/>
            <a:ext cx="418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14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强化，就是奖励那些符合组织目标的行为，以使这些行为得到进一步加强以至重复出现的刺激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表扬、奖励、认可、赞赏、改善工作关系或提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5" descr="~FIRA~[(]K23@(N3YCCE6)9"/>
          <p:cNvPicPr/>
          <p:nvPr/>
        </p:nvPicPr>
        <p:blipFill>
          <a:blip r:embed="rId2"/>
          <a:stretch/>
        </p:blipFill>
        <p:spPr>
          <a:xfrm>
            <a:off x="457200" y="1905120"/>
            <a:ext cx="4103640" cy="3944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强化激励的手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以“冠名”来激励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员工的“名字”明明一个小发明、小工具、一个作业程序，或一个优秀几台、生产线段，如“某某工作法”、“某某作业程序”、“某某换模支架”，对员工的激励作用是很大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以“认同”方式激励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员工加入时举办相应的欢迎仪式，员工考核晋升时举办相应的“发证”仪式，以及员工的生日，员工结婚、得子，各级领导给予相应的表扬、肯定，甚至一个赞许的目光，伸出大拇指，都能够成为对员工的鼓舞和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4" descr="u=2050238313,1339290747&amp;fm=0&amp;gp=0"/>
          <p:cNvPicPr/>
          <p:nvPr/>
        </p:nvPicPr>
        <p:blipFill>
          <a:blip r:embed="rId2"/>
          <a:stretch/>
        </p:blipFill>
        <p:spPr>
          <a:xfrm>
            <a:off x="6553080" y="0"/>
            <a:ext cx="1524240" cy="17892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正强化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980720"/>
            <a:ext cx="854064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海尔集团开始宣传“人人是人才”时，员工反应平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他们想：“我又没受过高等教育，当个小工人算什么人才？”但是当海尔把一个普通工人发明的一项技术革新成果，以这位工人的名字命名时，在工人中很快就兴起了技术革新之风。比如工人李启明发明的焊枪被命名为“启明焊枪”，杨晓玲发明的扳手被命名为“晓玲扳手”。这一措施大大激发了普通员工创新的激情，后来不断有新的命名工具出现，员工的荣誉感得到极大的满足。对员工创造价值的认可，是对他们最好的激励，及时的激励能让员工觉得工作起来有盼头，有奔头，进而也能激发出员工更大的创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激励招术：让员工敲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131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台湾有一家公司，在公司的大厅里，装置了一个大铜锣，只要业绩突破新台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的人，就可以去敲它一响，突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则敲它两响，依次类推上去。该公司的办公室，就是紧临着大厅，所以，只要这个铜锣被敲，它的声音马上会传入办公室内，也等于是告知全办公室内的人，有人的业绩突破了百万大关了，当这位敲锣的同仁步入办公室的同时，所有的人又都会起立鼓掌，给予他英雄式的欢呼。据该公司管理部门有关人员表示，这种被大家鼓掌欢呼的场面，是多么有面子的一件事，当然，谁都希望自己是下一个敲锣者，也接受大家的欢呼，不过，想要敲响它，首先是把业绩给做到，这正是该公司装置这个大铜锣的目的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学习的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试误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经典条件反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操作性条件反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社会学习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负强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鳄鱼"/>
          <p:cNvPicPr/>
          <p:nvPr/>
        </p:nvPicPr>
        <p:blipFill>
          <a:blip r:embed="rId2"/>
          <a:stretch/>
        </p:blipFill>
        <p:spPr>
          <a:xfrm>
            <a:off x="0" y="205740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4184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负强化是通过是通过惩罚那些不符合组织目标的行为，以使这些行为削弱甚至消失，从而保证组织目标的实现不受干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：批评、处分、罚款、扣分、降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5" descr="未命名他v"/>
          <p:cNvPicPr/>
          <p:nvPr/>
        </p:nvPicPr>
        <p:blipFill>
          <a:blip r:embed="rId3"/>
          <a:stretch/>
        </p:blipFill>
        <p:spPr>
          <a:xfrm>
            <a:off x="2362320" y="2057400"/>
            <a:ext cx="223200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负强化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学生，做作业速度非常慢，常常拖拖拉拉，他爸爸妈妈对于孩子这个缺点无可奈何。但是孩子又非常喜欢看电视，常常因为看电视而影响做作业的质量和速度。结合这两点，家长决定以看电视作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惩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刺激物，如果孩子不能在规定时间内完成作业，就不能看电视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坚持一段时间后，发现孩子不再拖拉，写作业的速度有所提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化的层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级强化：食物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级强化：尊严、赞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六角星 5"/>
          <p:cNvSpPr/>
          <p:nvPr/>
        </p:nvSpPr>
        <p:spPr>
          <a:xfrm>
            <a:off x="5943600" y="4191120"/>
            <a:ext cx="3048120" cy="2209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组织中的强化物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化的程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连续强化：每次理想行为出现时，都给予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间断强化：选取理想行为中的一部分进行强化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波形 3"/>
          <p:cNvSpPr/>
          <p:nvPr/>
        </p:nvSpPr>
        <p:spPr>
          <a:xfrm>
            <a:off x="5791320" y="4952880"/>
            <a:ext cx="2209680" cy="990720"/>
          </a:xfrm>
          <a:custGeom>
            <a:avLst/>
            <a:gdLst>
              <a:gd name="textAreaLeft" fmla="*/ 0 w 2209680"/>
              <a:gd name="textAreaRight" fmla="*/ 2210040 w 2209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哪个对你们更管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W020100827857631172766"/>
          <p:cNvPicPr/>
          <p:nvPr/>
        </p:nvPicPr>
        <p:blipFill>
          <a:blip r:embed="rId1"/>
          <a:stretch/>
        </p:blipFill>
        <p:spPr>
          <a:xfrm>
            <a:off x="1143000" y="2133720"/>
            <a:ext cx="6381720" cy="24033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3"/>
          <p:cNvSpPr/>
          <p:nvPr/>
        </p:nvSpPr>
        <p:spPr>
          <a:xfrm>
            <a:off x="685800" y="10666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费厄斯特和斯金纳对间断强化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QQ截图20120901191059"/>
          <p:cNvPicPr/>
          <p:nvPr/>
        </p:nvPicPr>
        <p:blipFill>
          <a:blip r:embed="rId1"/>
          <a:stretch/>
        </p:blipFill>
        <p:spPr>
          <a:xfrm>
            <a:off x="457200" y="0"/>
            <a:ext cx="79246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连续强化和间断强化对行为的影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QQ截图20120901191006"/>
          <p:cNvPicPr/>
          <p:nvPr/>
        </p:nvPicPr>
        <p:blipFill>
          <a:blip r:embed="rId1"/>
          <a:stretch/>
        </p:blipFill>
        <p:spPr>
          <a:xfrm>
            <a:off x="762120" y="11430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large_CxHb_4258l132091"/>
          <p:cNvPicPr/>
          <p:nvPr/>
        </p:nvPicPr>
        <p:blipFill>
          <a:blip r:embed="rId1"/>
          <a:stretch/>
        </p:blipFill>
        <p:spPr>
          <a:xfrm>
            <a:off x="0" y="0"/>
            <a:ext cx="9142560" cy="688644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与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中的奖励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中的惩罚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确使用奖励和惩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强化方法，降低缺勤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发培训计划，建立导师负责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体行为的自我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流程图: 资料带 4"/>
          <p:cNvSpPr/>
          <p:nvPr/>
        </p:nvSpPr>
        <p:spPr>
          <a:xfrm>
            <a:off x="914400" y="4572000"/>
            <a:ext cx="3505320" cy="17524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说说你知道的奖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与惩罚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国有一群小孩喜欢在一个地方踢足球，但旁边有个老头特别不喜欢他们在那踢球，所以他想了个办法，第一天给他们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十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说喜欢看他们踢球，然他们一直踢，过几天就给他们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五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原因是自己的买卖不是太好，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没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。但小孩还是很高兴，继续踢。等再过几天，那老头不给他们钱了但还是告诉他们希望他们继续在那踢球，可是那一群小孩却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叶圣陶的四粒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粒糖： “这颗糖是奖励给你的。奖励你很守时，老师请你来，你就来了，没有磨蹭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粒糖：“这颗糖是奖励你对我的尊重，老师叫你来你就来了，没有违拗，所以我要奖励你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粒糖：“是奖励你有正义感。刚才我调查过了，你是因为那个男孩欺负别的女孩子才对他举起砖头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粒糖：“你真是个知错就改的好孩子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强化与负强化关系密切，都是用以增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良好行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生率的强化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管理者的激励手法，是没有一定的标准模式可寻的，只要它能发挥鼓舞士气的作用，就是一种好的激励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4"/>
          <p:cNvSpPr txBox="1"/>
          <p:nvPr/>
        </p:nvSpPr>
        <p:spPr>
          <a:xfrm>
            <a:off x="1905120" y="228600"/>
            <a:ext cx="287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总结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516" name="Picture 5" descr="MC900240451[1]"/>
          <p:cNvPicPr/>
          <p:nvPr/>
        </p:nvPicPr>
        <p:blipFill>
          <a:blip r:embed="rId1"/>
          <a:stretch/>
        </p:blipFill>
        <p:spPr>
          <a:xfrm>
            <a:off x="-152280" y="15228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MC900437537[1]"/>
          <p:cNvPicPr/>
          <p:nvPr/>
        </p:nvPicPr>
        <p:blipFill>
          <a:blip r:embed="rId2"/>
          <a:stretch/>
        </p:blipFill>
        <p:spPr>
          <a:xfrm>
            <a:off x="6858000" y="4657680"/>
            <a:ext cx="18763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u=1441762430,1048320586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迷笼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catcage2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误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桑代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来，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学习即联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心即人的联结系统”，“学习是结合，人之所以长于学习，即因他形成这许多结合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猫学习打开疑难笼的过程中，经过多次尝试与失败，在复杂的刺激情境中发现门闩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作为打开笼门的刺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与开门反应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形成了巩固的联系，这时学习便产生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>
            <a:hlinkClick r:id="rId1" action="ppaction://hlinksldjump"/>
          </p:cNvPr>
          <p:cNvSpPr/>
          <p:nvPr/>
        </p:nvSpPr>
        <p:spPr>
          <a:xfrm>
            <a:off x="7315200" y="5791320"/>
            <a:ext cx="76212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条件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经常失眠的拳击运动员找到医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运动员：我经常失眠，不知道有什么办法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医生：告诉你个偏方，在睡觉前数数，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行了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运动员：这个办法我试过，但每当数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我就会从床上跳起来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巴甫洛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巴甫洛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伊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彼德罗维奇，俄国生理学家、心理学家、医师、高级神经活动学说的创始人，高级神经活动生理学的奠基人。条件反射理论的建构者，也是传统心理学领域之外而对心理学发展影响最大的人物之一，曾荣获诺贝尔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图片 3" descr="u=2909593146,2361171704&amp;fm=26&amp;gp=0.jpg"/>
          <p:cNvPicPr/>
          <p:nvPr/>
        </p:nvPicPr>
        <p:blipFill>
          <a:blip r:embed="rId1"/>
          <a:stretch/>
        </p:blipFill>
        <p:spPr>
          <a:xfrm>
            <a:off x="5257800" y="175248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pic_784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0:30:25Z</dcterms:created>
  <dc:creator>wangxinhong</dc:creator>
  <dc:description/>
  <dc:language>en-US</dc:language>
  <cp:lastModifiedBy>XiaZaiMa.COM</cp:lastModifiedBy>
  <dcterms:modified xsi:type="dcterms:W3CDTF">2022-10-17T07:25:3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