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A4C-A2A5-4029-A8A6-B1469EF6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4D37-3236-43E1-93C4-1403045C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A11-BE12-45BE-AEAA-D9187878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EF5-ED9E-4DF5-8B39-01BCAC19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7F9-FB1E-43A3-87D3-5C44956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9B6-E913-4CB8-86C1-D7959C8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932-EE97-43DF-B418-D26B0DC5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EB3-6DC1-4FB0-9024-EE0F13A6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CD8-FC70-4593-B266-C6CD4893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BBE-0EB3-429E-8335-CCF9FC6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31C-8ECB-4B88-A82A-4760A60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FC1-863A-4D2F-A33A-A2279A9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4C9-7C00-4BF8-B0D6-03ADE499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8588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个体决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430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容：决策的基本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决策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决策偏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603360"/>
          <a:ext cx="8640720" cy="5970600"/>
        </p:xfrm>
        <a:graphic>
          <a:graphicData uri="http://schemas.openxmlformats.org/drawingml/2006/table">
            <a:tbl>
              <a:tblPr/>
              <a:tblGrid>
                <a:gridCol w="1647720"/>
                <a:gridCol w="728640"/>
                <a:gridCol w="719280"/>
                <a:gridCol w="720720"/>
                <a:gridCol w="755640"/>
                <a:gridCol w="1044360"/>
                <a:gridCol w="936720"/>
                <a:gridCol w="1150920"/>
                <a:gridCol w="93672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清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天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南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华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复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师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考上的可能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名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业情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地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业地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校规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业科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无熟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32"/>
          <p:cNvSpPr/>
          <p:nvPr/>
        </p:nvSpPr>
        <p:spPr>
          <a:xfrm>
            <a:off x="395280" y="98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3"/>
          <p:cNvSpPr/>
          <p:nvPr/>
        </p:nvSpPr>
        <p:spPr>
          <a:xfrm>
            <a:off x="133200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5"/>
          <p:cNvSpPr/>
          <p:nvPr/>
        </p:nvSpPr>
        <p:spPr>
          <a:xfrm>
            <a:off x="1042920" y="62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选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7"/>
          <p:cNvSpPr/>
          <p:nvPr/>
        </p:nvSpPr>
        <p:spPr>
          <a:xfrm>
            <a:off x="395280" y="620640"/>
            <a:ext cx="1512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57176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优化决策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前提条件是经济人假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行：备选方案少，获取资料代价小，决策者经验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373200074013383448.jpg"/>
          <p:cNvPicPr/>
          <p:nvPr/>
        </p:nvPicPr>
        <p:blipFill>
          <a:blip r:embed="rId1"/>
          <a:stretch/>
        </p:blipFill>
        <p:spPr>
          <a:xfrm>
            <a:off x="4214880" y="4924440"/>
            <a:ext cx="47466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满意决策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QQ截图20120919085431"/>
          <p:cNvPicPr/>
          <p:nvPr/>
        </p:nvPicPr>
        <p:blipFill>
          <a:blip r:embed="rId1"/>
          <a:stretch/>
        </p:blipFill>
        <p:spPr>
          <a:xfrm>
            <a:off x="1042920" y="2276640"/>
            <a:ext cx="5695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直觉决策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4788000" y="4724280"/>
            <a:ext cx="4176720" cy="1368720"/>
          </a:xfrm>
          <a:prstGeom prst="cloudCallout">
            <a:avLst>
              <a:gd name="adj1" fmla="val -46425"/>
              <a:gd name="adj2" fmla="val 114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史玉柱和他的巨人大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决策偏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于个体的认知加工能力有限，难免出现偏差，主要表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度负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核的失败：工作态度、工作量、工作质量、工作技能、出勤率、团队合作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项目，还设置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子要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八角星 3"/>
          <p:cNvSpPr/>
          <p:nvPr/>
        </p:nvSpPr>
        <p:spPr>
          <a:xfrm>
            <a:off x="6643800" y="5072040"/>
            <a:ext cx="1857240" cy="1428840"/>
          </a:xfrm>
          <a:custGeom>
            <a:avLst/>
            <a:gdLst>
              <a:gd name="textAreaLeft" fmla="*/ 435960 w 1857240"/>
              <a:gd name="textAreaRight" fmla="*/ 1421280 w 1857240"/>
              <a:gd name="textAreaTop" fmla="*/ 335520 h 1428840"/>
              <a:gd name="textAreaBottom" fmla="*/ 109332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魔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沉没成本（承诺升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由于过去的决策已经发生了的，而不能由现在或将来的任何决策改变的成本。人们在决定是否去做一件事情的时候，不仅是看这件事对自己有没有好处，而且也看过去是不是已经在这件事情上有过投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悉尼歌剧院建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timg.jpg"/>
          <p:cNvPicPr/>
          <p:nvPr/>
        </p:nvPicPr>
        <p:blipFill>
          <a:blip r:embed="rId1"/>
          <a:stretch/>
        </p:blipFill>
        <p:spPr>
          <a:xfrm>
            <a:off x="5072040" y="4429080"/>
            <a:ext cx="33577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于自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不确定的经营环境中，人们通常对希望执行的计划过于乐观，在自我评价上往往高估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QQ截图20151102151920"/>
          <p:cNvPicPr/>
          <p:nvPr/>
        </p:nvPicPr>
        <p:blipFill>
          <a:blip r:embed="rId1"/>
          <a:stretch/>
        </p:blipFill>
        <p:spPr>
          <a:xfrm>
            <a:off x="1332000" y="3357720"/>
            <a:ext cx="637056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易利用性（联想性机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决策者往往会根据一些容易想起的典型事例做出判断和决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机、汽车哪个更危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" descr="u=3859034964,1489968247&amp;fm=26&amp;gp=0.jpg"/>
          <p:cNvPicPr/>
          <p:nvPr/>
        </p:nvPicPr>
        <p:blipFill>
          <a:blip r:embed="rId1"/>
          <a:stretch/>
        </p:blipFill>
        <p:spPr>
          <a:xfrm>
            <a:off x="4214880" y="3786120"/>
            <a:ext cx="4643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表性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500120" y="2928960"/>
            <a:ext cx="6337440" cy="2160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代表性：决策者根据与已有范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或概念的相似程度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进行判断和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决策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258920" y="2349360"/>
            <a:ext cx="626580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过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5724360" y="4869000"/>
            <a:ext cx="266400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张小可接到工作单位的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锚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取舍性机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指的是人们在对某人某事做出判断时，易受第一印象或第一信息支配，就像沉入海底的锚一样把人们的思想固定在某处。作为一种心理现象，沉锚效应普遍存在于生活的方方面面。第一印象和先入为主是其在社会生活中的表现形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492360" y="4724280"/>
            <a:ext cx="3600720" cy="1368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7*6*5*4*3*2*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*2*3*4*5*6*7*8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框架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决策结果受到决策问题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表征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影响。同样的决策问题，当描述框架和参照点不一样的时候，人们对于方案的评估是不一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840" y="1517760"/>
            <a:ext cx="8572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准备对付一种罕见的亚洲疾病，预计该疾病的发作将导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死亡。现有两种与疾病作斗争的方案可供选择。假定对各方案所产生后果的精确科学估算如下所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景一：对第一组被试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叙述下面情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采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案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将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生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采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案，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机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将生还，而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机会无人将生还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景二：对第二组被试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叙述同样的情景，同时将解决方案改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采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案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将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死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采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案，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机会无人死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而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机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将死去。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实质上情景一和二中的方案都是一样的，只是改变了描述方式而已。但也正是由于这小小的语言形式的改变，使得人们的认知参照点发生了改变，由情景一的“收益”心态到情景二的“损失”心态。即是以死亡还是救活作为参照点，使得在第一种情况下被试把救活看作是收益，死亡看作是损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体决策社会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社会易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社会性懈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少数派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集体盲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4" descr="untitled.png"/>
          <p:cNvPicPr/>
          <p:nvPr/>
        </p:nvPicPr>
        <p:blipFill>
          <a:blip r:embed="rId1"/>
          <a:stretch/>
        </p:blipFill>
        <p:spPr>
          <a:xfrm>
            <a:off x="3990960" y="4000680"/>
            <a:ext cx="5153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4200" y="5716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市繁华地段有一个食品厂，因经营不善长期亏损，该市政府领导拟将其改造成一个副食品批发市场，这样既可以解决企业破产后下岗职工的安置问题，又方便了附近居民。为此进行了一系列前期准备，包括项目审批、征地拆迁、建筑规划设计等。不曾想，外地一开发商已在离此地不远的地方率先投资兴建了一个综合市场，而综合市场中就有一个相当规模的副食品批发场区，足以满足附近居民和零售商的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对这种情况，市政府领导陷入了两难境地：如果继续进行副食品批发市场建设，必然亏损；如果就此停建，则前期投入将全部泡汤。在这种情况下，该市政府盲目做出决定，将该食品厂厂房所在地建成一居民小区，由开发商进行开发，但对原食品厂职工没能作出有效的赔偿，使该厂职工陷入困境，该厂职工长期向上反映不能解决赔偿问题，对该市的稳定造成了隐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会这样？如果你是市长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决策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率：成本、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准确性、可行性、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18066_198603"/>
          <p:cNvPicPr/>
          <p:nvPr/>
        </p:nvPicPr>
        <p:blipFill>
          <a:blip r:embed="rId1"/>
          <a:stretch/>
        </p:blipFill>
        <p:spPr>
          <a:xfrm>
            <a:off x="5796000" y="342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异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确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79917_081728005_2"/>
          <p:cNvPicPr/>
          <p:nvPr/>
        </p:nvPicPr>
        <p:blipFill>
          <a:blip r:embed="rId1"/>
          <a:stretch/>
        </p:blipFill>
        <p:spPr>
          <a:xfrm>
            <a:off x="5724360" y="3500280"/>
            <a:ext cx="24037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决策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智力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理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化差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img1093312_1"/>
          <p:cNvPicPr/>
          <p:nvPr/>
        </p:nvPicPr>
        <p:blipFill>
          <a:blip r:embed="rId1"/>
          <a:stretch/>
        </p:blipFill>
        <p:spPr>
          <a:xfrm>
            <a:off x="5940360" y="2924280"/>
            <a:ext cx="2305080" cy="178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iusong16"/>
          <p:cNvPicPr/>
          <p:nvPr/>
        </p:nvPicPr>
        <p:blipFill>
          <a:blip r:embed="rId2"/>
          <a:stretch/>
        </p:blipFill>
        <p:spPr>
          <a:xfrm>
            <a:off x="3995640" y="4869000"/>
            <a:ext cx="13683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决策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受限制的选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人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03031_9"/>
          <p:cNvPicPr/>
          <p:nvPr/>
        </p:nvPicPr>
        <p:blipFill>
          <a:blip r:embed="rId1"/>
          <a:stretch/>
        </p:blipFill>
        <p:spPr>
          <a:xfrm>
            <a:off x="4211640" y="3357720"/>
            <a:ext cx="3333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决策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349360"/>
            <a:ext cx="626580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过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决策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5724360" y="4869000"/>
            <a:ext cx="266400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张小可就是明天的我们，你知道自己怎么办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决策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优化决策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QQ截图20120919085337"/>
          <p:cNvPicPr/>
          <p:nvPr/>
        </p:nvPicPr>
        <p:blipFill>
          <a:blip r:embed="rId1"/>
          <a:stretch/>
        </p:blipFill>
        <p:spPr>
          <a:xfrm>
            <a:off x="611280" y="2781360"/>
            <a:ext cx="5933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考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学校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一、认识问题所在：选择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、确定决策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上的可能性、学校名气，就业情况、学校地址、专业地位、学校规模、专业科目、有无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、分配权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、开发所有的可行性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大、清华、天大、南开、华电、复旦、北师大、人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、评估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六、作出抉择（得分最高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1:00:23Z</dcterms:created>
  <dc:creator>雨林木风</dc:creator>
  <dc:description/>
  <dc:language>en-US</dc:language>
  <cp:lastModifiedBy>XiaZaiMa.COM</cp:lastModifiedBy>
  <dcterms:modified xsi:type="dcterms:W3CDTF">2021-10-18T05:04:01Z</dcterms:modified>
  <cp:revision>42</cp:revision>
  <dc:subject/>
  <dc:title>3.3 个体决策</dc:title>
</cp:coreProperties>
</file>